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CB14-1923-43D2-A1A1-70E4CF75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1540-40E9-4C07-A93F-649A2DF0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C44-F3EA-45F7-8700-FDDD051A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7A6-0CE6-40D5-BF13-2F83DF47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163F-4A4C-4EB0-AE01-0982B1B6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6A2-2247-4139-A329-36C8E663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685-1807-4CD5-940C-4A66C87D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59F-4BA2-491B-818B-9E63FF4E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61D-01FC-4D70-BBE8-E55012B9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D440-1E46-4D5C-8BEF-8EC10B8C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E88-7BB9-4859-8B66-B1DE06E6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726D-27C2-4B8C-8D4A-E035CCF8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AFCB-735C-400B-9AFD-5B753467FE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7"/>
          <p:cNvSpPr/>
          <p:nvPr/>
        </p:nvSpPr>
        <p:spPr>
          <a:xfrm>
            <a:off x="0" y="5000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5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5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0" descr="Perth &amp; District Tourists.JPG"/>
          <p:cNvPicPr/>
          <p:nvPr/>
        </p:nvPicPr>
        <p:blipFill>
          <a:blip r:embed="rId1"/>
          <a:stretch/>
        </p:blipFill>
        <p:spPr>
          <a:xfrm>
            <a:off x="237960" y="28584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1" descr="Perth Bowlers.JPG"/>
          <p:cNvPicPr/>
          <p:nvPr/>
        </p:nvPicPr>
        <p:blipFill>
          <a:blip r:embed="rId2"/>
          <a:stretch/>
        </p:blipFill>
        <p:spPr>
          <a:xfrm>
            <a:off x="1738440" y="21420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2" descr="Perth Tartan Tour.JPG"/>
          <p:cNvPicPr/>
          <p:nvPr/>
        </p:nvPicPr>
        <p:blipFill>
          <a:blip r:embed="rId3"/>
          <a:stretch/>
        </p:blipFill>
        <p:spPr>
          <a:xfrm>
            <a:off x="3452760" y="35712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3" descr="Perth Ex Presidents.JPG"/>
          <p:cNvPicPr/>
          <p:nvPr/>
        </p:nvPicPr>
        <p:blipFill>
          <a:blip r:embed="rId4"/>
          <a:stretch/>
        </p:blipFill>
        <p:spPr>
          <a:xfrm>
            <a:off x="4952880" y="71280"/>
            <a:ext cx="1390680" cy="130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4" descr="Perth League.JPG"/>
          <p:cNvPicPr/>
          <p:nvPr/>
        </p:nvPicPr>
        <p:blipFill>
          <a:blip r:embed="rId5"/>
          <a:stretch/>
        </p:blipFill>
        <p:spPr>
          <a:xfrm>
            <a:off x="6738840" y="428760"/>
            <a:ext cx="1006560" cy="973080"/>
          </a:xfrm>
          <a:prstGeom prst="rect">
            <a:avLst/>
          </a:prstGeom>
          <a:ln w="0">
            <a:noFill/>
          </a:ln>
        </p:spPr>
      </p:pic>
      <p:sp>
        <p:nvSpPr>
          <p:cNvPr id="49" name="TextBox 35"/>
          <p:cNvSpPr/>
          <p:nvPr/>
        </p:nvSpPr>
        <p:spPr>
          <a:xfrm>
            <a:off x="0" y="1357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RTH  &amp;  DISTRICT TOURISTS  PERTH &amp;  DISTRICT  BOWLERS        PERTH  TARTAN  TOUR                 PERTH  EX  PRESIDENTS          PERTH  &amp;  DISTRICT  LEAG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0-02-02T17:08:45Z</dcterms:modified>
  <cp:revision>35</cp:revision>
  <dc:subject/>
  <dc:title>Slide 1</dc:title>
</cp:coreProperties>
</file>